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446F-1865-4ED9-80D0-FAE21C94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3FDE-B19C-40F8-A203-333DF71E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8BEA-94E6-4094-B758-94E40060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D08C-2E30-473C-999A-EEDC6F93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9B21-0449-46F8-A411-140F1678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8820-8EDB-4247-BA52-590A5861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359B-9ABE-415D-AA81-315B874A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186-41BF-460D-98B7-99FB9007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ADA1-D322-45E2-905E-BF18D103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B76F-00B3-4B2E-9FF0-13E0875C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251F-6491-49B2-A934-CFFD3810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4387-B498-4032-B998-FF4E8DAD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E29F-B9B3-47F5-A5EA-E73B29BE49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285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900" spc="-1" strike="noStrike">
                <a:solidFill>
                  <a:srgbClr val="000000"/>
                </a:solidFill>
                <a:latin typeface="Calibri"/>
                <a:ea typeface="Times New Roman"/>
              </a:rPr>
              <a:t>Balneoterapija</a:t>
            </a:r>
            <a:br>
              <a:rPr sz="7900"/>
            </a:b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898989"/>
                </a:solidFill>
                <a:latin typeface="Calibri"/>
              </a:rPr>
              <a:t>Doc. Dr T. Lukov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br>
              <a:rPr sz="3600"/>
            </a:b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2.начин</a:t>
            </a:r>
            <a:r>
              <a:rPr b="1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апликације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:</a:t>
            </a: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Општа</a:t>
            </a:r>
            <a:r>
              <a:rPr b="1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купка</a:t>
            </a:r>
            <a:r>
              <a:rPr b="1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352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(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еш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инералн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орск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бичн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од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днос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1:3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3:1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ог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бит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густ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ет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имењуј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а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пшт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уп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лукуп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локалн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уп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Т</a:t>
            </a:r>
            <a:r>
              <a:rPr b="1" lang="en-US" sz="2800" spc="-1" strike="noStrike">
                <a:solidFill>
                  <a:srgbClr val="0d0a10"/>
                </a:solidFill>
                <a:latin typeface="Calibri"/>
              </a:rPr>
              <a:t>= 39º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С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рем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20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сл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кидањ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уширањ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опл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од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36-37º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дмор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30-40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 летњим месецима поред налазишта,сунча 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Механизам</a:t>
            </a: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дејства</a:t>
            </a: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пелои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d0a10"/>
                </a:solidFill>
                <a:latin typeface="Calibri"/>
              </a:rPr>
              <a:t>топлотно</a:t>
            </a:r>
            <a:r>
              <a:rPr b="0" lang="en-US" sz="30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d0a10"/>
                </a:solidFill>
                <a:latin typeface="Calibri"/>
              </a:rPr>
              <a:t>механичко</a:t>
            </a:r>
            <a:r>
              <a:rPr b="0" lang="en-US" sz="3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0000"/>
                </a:solidFill>
                <a:latin typeface="Calibri"/>
              </a:rPr>
              <a:t>хемијско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ff0000"/>
                </a:solidFill>
                <a:latin typeface="Calibri"/>
              </a:rPr>
              <a:t>дејств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хемијске</a:t>
            </a:r>
            <a:r>
              <a:rPr b="0" lang="en-US" sz="26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материје</a:t>
            </a:r>
            <a:r>
              <a:rPr b="0" lang="en-US" sz="26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сумпор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-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водоник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угљен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диоксид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радон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јони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,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биолошки</a:t>
            </a:r>
            <a:r>
              <a:rPr b="0" lang="en-US" sz="26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активне</a:t>
            </a:r>
            <a:r>
              <a:rPr b="0" lang="en-US" sz="26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матер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ензими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хормони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д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з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елоид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релаз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организа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роз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ож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спољавајућ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фармакодинамско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дејство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Terapijsko dejstvo peloi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vazodilatacija, resorpcija patoloških produkata, antiinflamatorno dejst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analget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pazmolitič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ндикације за пелоидотерапиј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уматолошка обољ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трауматска стања: контрактуре,успорено стварање калуса,мека тк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уролошка:неруалгије,неуритиси,повреде нер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инеколошка:аднекситис,параметритис,стерилитет,постоперативни инфилтр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онтраиндикације за пелои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ш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кутни и хронични запаљењски у погоршањ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енокардија,аритм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ражена артериосклероза,изражена Х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рикозиетти,облитерирајућа обољ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ронхијална астма,бронхијектаз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ипертире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хекс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Mineralne v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Lekoviti rastvori minerala u obliku soli,baza,kiselina ili gaso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Osobine:temperatura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adioaktivnos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gasn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astav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alkalnost/kiselos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ineralizacija i organoleptička svojstva (ukus,miris i boj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епоновање и припрема пелои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ле вађења из налазишта чувају се у плитким базенима,покривени морском или минералном водом (5 до 10 ц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 смеју да се исуше,ни изложе дејству ваздуха (гвожђе прелази у неколоидни обл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штићени 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тмосферских падавина и загађ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даје или се одузима в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генеришу се у налазишт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Mineralne vod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osebna vrsta podzemnih v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d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koje imaju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više od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gr/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mineralnih sastojaka ili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gasova, ili  j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temperatura vode takva da se mo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 koristiti u terapijske svrh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maju iskustvom utvrdjeno lekovito dejst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rema geološkom poreklu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juvenilne, vadozne i fosil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Juvenilne  vode</a:t>
            </a:r>
            <a:r>
              <a:rPr b="0" lang="en-GB" sz="40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-360" y="856800"/>
            <a:ext cx="9001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t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u iz usijane magme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koja se u unutrašnjosti zemlje nalazi pod velikim pritiskom. Ako se taj pritisak usled tektonskih poremecaja smanji, pregrejana vodena para sadrzana u magmi izlazi iz nje i prodire u slojeve blize zemljinoj površini. Putem se hladi i kondenzuje, a otapanjem minerala iz raznih zemljinih  slojeva, st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 mineralizaciju.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ako mineralizovana voda izbija na površinu zemlje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a mestima najmanjeg otpora u obliku izvo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dlikuju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e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konstantnim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hemijskim sastavom, t i kapacitetom izviran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Vadozne v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ovršinske vo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akon obilnih padavina površinske vode poniru u zemlju, bivaju obog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ne mineralima i gasovima , da bi se ponovo pojavile na površini kao mineralne v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enjanju tokom godine sastav, t i kapacitete</a:t>
            </a: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DEFINICI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Balneoterapija je korišċenje prirodnih lekovitih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la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a u profilakt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ke i terapijske svrhe/peloida,mineralnih voda,gasova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Bioklimatologija 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učava uticaj klime,metero-kosmičkih faktora,cikadijalnih bioritmova na zdravlje i funkcije čove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Klimatski faktori deluju s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ivno ili nadražajno;imunomodulatorno i metabolič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Fosilne (dubinske) v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4920" y="19807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dolaze iz velikih dubin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 P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 sastavu stabilnije i toplije. Nastaju iz padavina koje prodiru u duboke pešcane i šljun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kovi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 slojeve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taju zatv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rene, jer se se na te slojeve talo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ž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nepropusni slojev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D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pire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b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o bušenjem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 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 mogu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s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obnavljati, te im je trajanje ogran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no.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Č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sto prate nalazišta petrolej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(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etrolejs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ke);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adr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 jod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jodne vod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Karakteristike mineralnih vod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ineralizacij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jonski sasta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emperatura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20 stepen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adr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j gasov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CO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H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, radon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H vrednos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radioaktivnost i dr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Mineralizacij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kolicina rastvorenih cvrstih materija koje se u vodama nalaze u obliku jona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edisociranih molekula i koloi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dredjuje tako što se voda greje na 180ºC pri cemu se dobija suvi ostatak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mineraln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-ako sadrze više od 1gr/l i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oligomineraln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-ako sadrze manje od 1gr/l suvog ostat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Jonski sastav mineralnih vod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d 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katjona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najcešce srecemo: Na, Mg, Ca, a od anjona HCO³, Cl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O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lementi u tragu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ali biološki vrlo aktivni, su: J, Br, Fe, S, As, Cu,  Co i d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ajznacajniji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gasovi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su: CO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 i radon. Pored njih srecu se još i metan, etan, helijum,</a:t>
            </a: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Podela prema milimolarnoj koncentraci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14200" y="1981080"/>
            <a:ext cx="824400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 osnovu milimolarnih</a:t>
            </a:r>
            <a:r>
              <a:rPr b="0" lang="en-GB" sz="2800" spc="-1" strike="noStrike" u="sng">
                <a:solidFill>
                  <a:srgbClr val="0000ff"/>
                </a:solidFill>
                <a:uFillTx/>
                <a:latin typeface="Symbol"/>
                <a:ea typeface="Symbol"/>
                <a:hlinkClick r:id="rId1" action="ppaction://hlinksldjump"/>
              </a:rPr>
              <a:t>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koncentracija jona moguce je porediti mineralne vode sa osmotskim pritiskom krvi. Prema takvoj analizi mineralne vode se dele na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hipotone, izotone i hipert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5760" indent="-1857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zotone vode treba da imaju ukupnu milimolarnu koncentraciju oko 300, a što odgovara rastvoru od 9 gr NaCl / 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5760" indent="-1857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Symbol"/>
                <a:ea typeface="Symbol"/>
                <a:hlinkClick r:id="rId2" action="ppaction://hlinksldjump"/>
              </a:rPr>
              <a:t>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ol= molekularna tezina (MG), atomska tezina u grami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5760" indent="-185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Temperatura mineralnih vo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rema temper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uri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hladne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  t niža od 20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i tople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v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š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 od  2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ermalne vod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h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ipotermne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2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3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0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)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homeotermn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4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i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hiperterm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znad 4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ranjska banja, Jošanicka banja, Kuršumlijska i d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Radioaktivnost mineralnih vo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5480" y="1214280"/>
            <a:ext cx="817236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u mineralnim vodama najcešce ima radona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1" i="1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koji je emanacija radijuma. Poluzivot mu je 3,82 dana, emituje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i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zrake. Alfa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raci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maju lekovita svojstv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endokrine, 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an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srž). Koriste se samo na izvori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ovoljno na perifernu cirkulaciju, rad srca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diurezu, lučenje m.kiseline; deluju sedativno i analgetski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išk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banj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,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Sokobanj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,Vlasi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rance YU"/>
                <a:ea typeface="Times New Roman"/>
              </a:rPr>
              <a:t>Klasifikacija mineralnih voda</a:t>
            </a:r>
            <a:r>
              <a:rPr b="1" lang="sr-Latn-CS" sz="4000" spc="-1" strike="noStrike">
                <a:solidFill>
                  <a:srgbClr val="000000"/>
                </a:solidFill>
                <a:latin typeface="France YU"/>
                <a:ea typeface="Times New Roman"/>
              </a:rPr>
              <a:t> po Kventinu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560" y="1600200"/>
            <a:ext cx="8458200" cy="495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2f2f2"/>
                </a:solidFill>
                <a:latin typeface="France YU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2f2f2"/>
                </a:solidFill>
                <a:latin typeface="France YU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Vode koje sadze više od 1 gr/l vode 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čvrst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e supstance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,a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k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arakter odredjuju joni koji su zastupljeni sa više od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20 milival.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hidrokarbonatne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(NaCl i KCl su alkalne i zemnoalkalne),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sulfatne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(Na sulfatne i Mg sulfatne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su salinične i gorke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) i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hloridne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(slane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Mineralne vode koje sadrze male koli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č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ine mineralnih sastojaka, koji su znacajno biološki aktivni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(tzv mikroelementi)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.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Ubrajamo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sulf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atne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(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najmanje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1mg/l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S;Na salinične i Mg gorke)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, jodne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najmanje 1mg/l rastvorenog 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J)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gvozdjevite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(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10 mg/l rastvorenog 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Fe)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arsenske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(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najmanje 0,7 mg As/l 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Klasifikacija mineralnih vo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ineralne vode koje sadrze rastvorene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gasove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: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ugljenokisele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najmanje  1 gr/l rastvorenog CO2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Bujanovacka banja),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sulfidne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adrze male kolicine H²S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)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i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radonske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Oligomineralne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kratotermne-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"divlje vode" sadrze 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anje od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1 g/l rastvorene supstance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, a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 je viša od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2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0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C° (Prolom banja). 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ošto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nemaju mnogo soli mogu da se piju kao diuretsko sredstvo 2-3 litr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na d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rance YU"/>
                <a:ea typeface="Times New Roman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Nacin upotrebe mineralnih vod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ijenjem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grgoljenjem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kupanjem, 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aginalnim ispiranj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haliranjem ( jodno bromne, radioaktivne, slane i hidrokarbonatne vo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Balneoklimatolog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9720"/>
            <a:ext cx="86868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Medicinska fiziološk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uticaj nadmorske visine,GD i GŠ,sezona,vetrova na zdravlje ljud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Med meteoropatologij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uticaj vlažnosti, T, p,ciklona,jo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u vazduhu na pojavu bole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Med klimatoterapij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visin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apij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helio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ij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fitoter,aero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Proučavanje bioritmova: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cirkardijalni,godišnji,sezonski i dnevni ritmo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Dejstva mineralnih vo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oboljenja perifernih ks, DS, diure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-oboljenja perifernih ks i srca, psorija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adioaktivne-k.srž, diuretski, sedativ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ulfatne-peristaltika želuca i cre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Hidrokarbonatne- DS i diuret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Hloridne-DS, sekretolitički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manjuju diurez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mzigradska b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Slika 3"/>
          <p:cNvPicPr/>
          <p:nvPr/>
        </p:nvPicPr>
        <p:blipFill>
          <a:blip r:embed="rId1"/>
          <a:stretch/>
        </p:blipFill>
        <p:spPr>
          <a:xfrm>
            <a:off x="685800" y="1785960"/>
            <a:ext cx="6386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Selters Mladenov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najlepsa slika selters"/>
          <p:cNvPicPr/>
          <p:nvPr/>
        </p:nvPicPr>
        <p:blipFill>
          <a:blip r:embed="rId1"/>
          <a:stretch/>
        </p:blipFill>
        <p:spPr>
          <a:xfrm>
            <a:off x="1138320" y="1623960"/>
            <a:ext cx="686736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Banje Srb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28760" y="1071360"/>
            <a:ext cx="8029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elenci (Zrenjan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Banja Kanjiža (Kikind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Vrdnik (Sremska Mitrovic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oviljača (Šab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Bukovička banja (Arandjelov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Gamzigrad (Zaječa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Zlatar (Nova Varoš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Zlatibor (Čajetina):štitna,anemija,gojaz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Ivanjica (Čača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uršumlijska:reuma,kožne,sterilitet,D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Banje Srb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400" y="1071360"/>
            <a:ext cx="87152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Novi Paz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Vrnjačka Banja: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Mataruška banja:sterilit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Ribarska banja (Kruševa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Sokobanja: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Niška banja: reumatska i KV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Sijerinska banja (Medvedja):kožne boles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Bujanova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Vranjska banj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Selters (Beogr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Prolom:holelitijaza,kalkuloza,gastritis,psorijaza,ek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konski uslov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neke indikacije otpusna lista odgovaraju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ustanove,ne starija od mesec dana koja potvr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je postojanje oboljenja,povrede ili opera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MSE i stepen odu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osti /Barthel,ASIA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dnom god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je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izuzev AMI,nekih preloma i CVI nako nopera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M jednom godišnje do 18 god života,a 1 u 7 godina nakon punoletst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Indikacije za banjsko lečen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857160"/>
            <a:ext cx="84582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Neurološka oboljenj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posledice poliomijelitisa,MS,mijastenija gravis,  DCO, hemiplegija,paraplegija,kvadriplegija,pleksus 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Oboljenja srca i krvnih sudova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Gamzigrad, N Varoš, Niš, Selters):AIM,by pass,mane do 18 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Reumatološka obolje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Skolioze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o 16 god,Cobb više od 20 step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Luxatio coxae congenita,tortikolis,pectusi nakon operacije;Mb Perthers,Mb Pag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tanja posle PTC i PT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Oboljenja respiratornog sistema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Arandjelovac, Ivanjica, Sokobanja, Niška):HOPB,astma,bronhiektazije,cistična fib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Povrede i oboljenja L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Endokrinološka oboljenja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Arandjelovac, Zlatibor,Vrnjačka):tireotoksikoza,ekstremna gojaznost,tip 1 D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Onkološka rehabilitacija de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ISTORIJ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15238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 Sent Moritzu je 1907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godine pronadjena kapta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sa izdubljenim deblima drveta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z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bronzano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dob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( l000 god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Vrela vode su  smatrana sedištem nekog bo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nstva, a kupanje u vrelu i pijenje te vode obrednim verskim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nom. U znak zahv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lnosti prinosili su se darovi bo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nst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izvorima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u nadjeni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ma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vi, koplja,metalni nova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YU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YU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ISTORIJ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49976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 rimskoj kapta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 u Vrnja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j banji 1924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god nadjeno je oko 200 komada rimskog novca od Agripe do Konstantina Velikog (37-34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vrelima su postavljene   zavetne plo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, sa natpisima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je su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lužile  da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bolest sa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veka pre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j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na plo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cu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a zatim u vrel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Beogradu kod crkve Ru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ca, koja ima hladno mineralno vrelo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 drveću su ostavljan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krpice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 okviru paganskih običaja (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 pre dve decenije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 Africi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u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pisani  slicni obica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Peloidoterap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rimena lekovitih činilaca t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rirodni i veštački; organski,neorganski,mešovi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Vrste: muljevi, sapropel, treset, pseudovulkanski (fango) i izvorski peloid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Imaju dve čvrste faze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stalni skelet i koloidni komplek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i jednu tečnu (peloidni rastv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rimenjuju se u vidu aplikacija (lokalnih i opštih) i kupki;izuzev glave,vrata i predela s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ПЕЛОИДОТЕРАП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d0a10"/>
                </a:solidFill>
                <a:latin typeface="Calibri"/>
              </a:rPr>
              <a:t>Pelos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= 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му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рганског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рекл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БИОЛИТ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(таложењем изумрлих биљака и животињ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орс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зерс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уљ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рес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Неорганског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рекл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–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БИОЛИТИ (физичким процесима)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нералн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улканс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ело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ловач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лапора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ејства пелои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Термичко деловањ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мањују бол и спазам,побољшавају прокрвљеност, метаболиз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Calibri"/>
              </a:rPr>
              <a:t>Хемијско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Calibri"/>
              </a:rPr>
              <a:t>деловање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:антизапаљењски (Р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Механичко деловање:на крвоток и лимфот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Начин</a:t>
            </a:r>
            <a:r>
              <a:rPr b="1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апликације увијањем</a:t>
            </a:r>
            <a:r>
              <a:rPr b="1" lang="en-US" sz="36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пелоидно</a:t>
            </a:r>
            <a:r>
              <a:rPr b="1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паковањ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Parafango"/>
          <p:cNvPicPr/>
          <p:nvPr/>
        </p:nvPicPr>
        <p:blipFill>
          <a:blip r:embed="rId1"/>
          <a:stretch/>
        </p:blipFill>
        <p:spPr>
          <a:xfrm>
            <a:off x="0" y="857160"/>
            <a:ext cx="3332160" cy="3257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Parafango aplikacija3"/>
          <p:cNvPicPr/>
          <p:nvPr/>
        </p:nvPicPr>
        <p:blipFill>
          <a:blip r:embed="rId2"/>
          <a:stretch/>
        </p:blipFill>
        <p:spPr>
          <a:xfrm>
            <a:off x="609480" y="4000680"/>
            <a:ext cx="3248280" cy="2857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9880" y="914040"/>
            <a:ext cx="5105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1.1</a:t>
            </a:r>
            <a:r>
              <a:rPr b="1" lang="en-U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Локалне</a:t>
            </a:r>
            <a:r>
              <a:rPr b="1" lang="en-U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аплик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тол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тав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ћеб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ластич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фолија и чаршав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грејан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елоид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лоју од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5-6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ц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пликуј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ел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ти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болесник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мотав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42-45º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35-40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кон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кидањ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новн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акова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вршав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уширање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лазо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лак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од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36-37º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;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буч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дмар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30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40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ваки,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 други дан,2 па 1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1.2.Опште</a:t>
            </a:r>
            <a:r>
              <a:rPr b="1" lang="en-U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апликације</a:t>
            </a:r>
            <a:r>
              <a:rPr b="1" lang="en-U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еом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ретк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римењуј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јер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јак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птерећуј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рганиза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рочит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ВС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08:06Z</dcterms:created>
  <dc:creator>WIN98SE</dc:creator>
  <dc:description/>
  <dc:language>en-US</dc:language>
  <cp:lastModifiedBy>Info</cp:lastModifiedBy>
  <dcterms:modified xsi:type="dcterms:W3CDTF">2019-12-05T12:02:47Z</dcterms:modified>
  <cp:revision>43</cp:revision>
  <dc:subject/>
  <dc:title>Balneoterapija </dc:title>
</cp:coreProperties>
</file>