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782C-599F-4951-9D44-A8C5C2A06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8FA-5123-4534-AD63-E6A23751420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73D1-FD98-4032-85D5-688988FD88A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315E-8A52-44AB-BD17-FDEDCC7B67D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6DF8-AE70-49E1-86D6-367BD42EA8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8D5-4584-4428-9982-AAB7D1F1C15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7D0-4BC2-4C8A-9CF0-09ED74372A9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1A7-37F4-4BAD-85DE-1A314599479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47DB-5F73-4010-866B-90F1A80B562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749-51B7-4036-AFBA-58F8DB96114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CB36-5900-4FC0-8EAD-64ED70960A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9E8-D01C-425B-AD86-1D0178448C0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A78F-5D6D-4DF9-8D92-D05334D70B6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371A-6016-4853-ADA4-A8BA55DCEA0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9F99-5BFE-4B9B-AE53-3E0410A4E05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BF7-9239-4271-9B04-800E6331069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E9E2-1ECC-468A-B456-5644BDC841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E40-A066-4CFD-81A7-7D10D253F9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E08-A3A5-4A26-938B-5114194BF5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ABB3-441D-4BA7-906D-2F40A20CAA3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272-4310-4E7D-A182-0D8D5357996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FFE-F6BD-47A3-862D-77C08E89FEA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A171-C128-480E-82DD-89D7F9B20F6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00B5-6D94-4524-91AA-E2BF72C081C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66E-BF6E-4D5A-AEEC-416C805F6B9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BF3-6E69-4EF9-8C5E-0D3CED022B8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FD6-BAF9-488F-9F23-356D5F6A36A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1BDB-7D71-41D3-8796-A2B7CC2D8EF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897-B416-408A-A75E-853EC9E2659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EC1D-C046-4089-8598-48C498D92EA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593-FCE9-4953-92D5-A46B768380D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2D3-7E20-43E2-ABA6-0D43C64332B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82A4-8B38-4A60-85FD-5299BDC1BAD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4E2E-B5DD-467A-863F-95B6FE21EF0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80AF-E94B-463A-9F9A-903E930F6C6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FA2-3733-4423-8C72-80C67249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D9A-13C5-4456-85D0-A4D3E4B1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E5F-03A8-4488-AE3D-7DFFC962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7A1-7043-4EED-BAB4-332D7F08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6D18-B94A-4AEA-95AB-4A27CA2F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02FB-13A4-4183-A6E1-4492C70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D522-E360-42BB-9072-C20B35E0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834-50BE-441E-B55F-AF24CF5E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5819-5609-4B1F-80F7-2A88AD1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F1EA-85FA-43E7-A267-0C3B8BC6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428-2083-49FE-980C-4E647A45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09D-84C8-4AEC-939B-38CD8C27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55BB-9BFF-4D76-9B94-A39234C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C6AC-5034-4913-BB35-F0B1683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061-28A6-40B4-AF47-844F4AFF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6D8E-AE7F-4130-A8B2-743093F8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74C9-5A1A-4BD7-91C0-7B22D186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8C70-DCEA-4387-A1CD-F13D8318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D6DA-3BBD-4DA7-A2AD-B27542E5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FC0E-30B7-40A3-B563-BB4B874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B1DE-D172-44B0-9646-75CE10E2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BCAD-7C9F-4285-AD3F-155A6D9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E74-E64A-4E30-B596-E558FB3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AF15-A54E-4487-A660-CE3BC499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A398-A1C2-4325-8A25-9428AB7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50E2-8084-4F68-8606-546CED2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27AD-F76E-4F6C-A848-1C9A042F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FEDB-77D9-4134-8BC9-332B0FB4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6DF0-2E4F-44A4-9AA9-1A1C5791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10C5-49A7-40A5-AD4E-FC568D9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B3D-1367-45CA-ABB5-0573078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AE6-F1D9-4E6E-9128-E21AB780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CE1-E8EF-4CBA-B9B2-CDF223A5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FB6-8EBE-4B1D-80DB-617E8A3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227-8E92-4530-A2CD-E78907D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86E-5819-4594-88D9-3C53320F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C020-A7AC-4911-ACAE-6A3F7374651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F6A-05D4-4A84-A29C-BB09C76637D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011-C9EC-4174-B38E-2021572C37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ХИДРОТЕРАП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Медицински</a:t>
            </a:r>
            <a:r>
              <a:rPr b="0" lang="sr-Latn-C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факултет</a:t>
            </a:r>
            <a:r>
              <a:rPr b="0" lang="sr-Latn-C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Крагујева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Биофизич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идростатск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ти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ажњ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рифер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ен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имф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д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тис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ентралн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рвоток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          (“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”)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јафрагм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груд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ш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&gt;отеж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нспирију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лакш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кспирију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тиса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рхимедов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ко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тпор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Биофизич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ермич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фикас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вектив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едств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ханичко 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ејство притиска и потис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хемијс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мен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атер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створљив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жина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ла при потапању у воду</a:t>
            </a:r>
            <a:br>
              <a:rPr sz="3600"/>
            </a:b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Harrison,Bulstrod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ушкарци              же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7                           8%                     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 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hoideus         35%                    2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IAS                       54%                     4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вн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судов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дилат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ВС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ул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а,ударни волумен промена периферног отпора протицању кр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ЦНС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Н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з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ровод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П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трактил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Р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рзи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уби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в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слик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– Er, Hgb, 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бубрези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 диурезу топле повећава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таболиза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ксидатив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цес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дилатац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рвенил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констрикц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нутрашњ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рга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наш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нтагонистичк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днос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Daster Morat)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изузев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мозга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бубрега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слези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брз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ча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дубљ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брза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рш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ер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лф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астичн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Н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ром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нертн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а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отив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лад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вофаз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ко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ул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убљ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таболиз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П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изир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д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м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особ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лад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рофаз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 (парализа вазоконстриктора и слабљење тонуса к.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вод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ер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&gt;аналгетс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азмолитич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елов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ча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таболиз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а бола хидротерапиј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јство на периферне механорецепторе смањује улаз кроз  ,,врата,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у ТТ,а тиме и оптерећење на зглобо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-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финиц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идро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дразуме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ољ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ме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иљ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еч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јед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јстариј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идо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ече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фикас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зноврст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год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мбинов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озир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јефти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огућ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нред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лов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малн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кал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Cordes-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2438280"/>
          <a:ext cx="8686800" cy="4195800"/>
        </p:xfrm>
        <a:graphic>
          <a:graphicData uri="http://schemas.openxmlformats.org/drawingml/2006/table">
            <a:tbl>
              <a:tblPr/>
              <a:tblGrid>
                <a:gridCol w="1106640"/>
                <a:gridCol w="1357200"/>
                <a:gridCol w="1574640"/>
                <a:gridCol w="1600200"/>
                <a:gridCol w="1295640"/>
                <a:gridCol w="1752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up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ladna 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 oseća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la 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 oseća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ež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lo top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rijatno 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 – 36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odnošljivo 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rijatno 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de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odnošljivo 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озирањ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Cordes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ап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V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епе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скал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ап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зир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епе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скал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кундам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дротерапијск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акциј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Baruc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уп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фекат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х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јством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овољавају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с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фект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цијент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е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з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ши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вокот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јано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рат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ши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ротир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нека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ину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ечење опекот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хидрацијом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мекшавањем и дебридманом нектротичног ткива&gt;одвајање и смањ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ње броја бактер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ак и топлота побоњшавају циркулацију и трофику и поуспешују зараст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тисптични раствори,вежбе у в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ежи графтови(до 7 дана) су контраиндик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ел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апијских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цедура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термалн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кинетичк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ресе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е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ивањ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сер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љањ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вод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са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зитерап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ковањ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електричн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алванск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оров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етвороћелијск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дел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ских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ОПШ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рипремно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злаг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уп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ушир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овод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саж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мбинова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ЛОКАЛ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лог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риг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лиз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локал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озирањ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јачи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надража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ермич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ханич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емијс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оврши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Контраиндикациј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з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лигнит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компензаци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H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лућ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ахекс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рудноћ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ијаре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нконтиненц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епилепс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т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осл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C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зараз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рматитис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рмато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сорија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екц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хеморагич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ијате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ране,инфек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Хидротермалн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ре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једноставни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мал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познати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iesnitz ov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а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ри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колик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оје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в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кани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реч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акт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дух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уз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сторз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фламатор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аринг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хе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ив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т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окал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-2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њ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-5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фротир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к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црве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р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ед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 тонизирајућ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малн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опште,полукупке и локалне (различит П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е купке,ароматичне,са гасов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топал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умат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ронич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сттраумат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ехла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алој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арлиц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...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рућ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туз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торз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то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...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лад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-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историј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стариј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исан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сопотамија, Индија, К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пократ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460-377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иш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тоц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лцер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ихтоз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фек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але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и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имс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дијато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sent Priesnitz (1799-18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рљ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лаж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шкир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укавиц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т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в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шкир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аковањ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лаж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окал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мерен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0-30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епрат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0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л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их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ребан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0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контрасне,васкуларна вежба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ов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4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ућ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о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-7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у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уматиза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мрзли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трауматск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а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ма и консензуално дејство.Не код срчаних болесника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auffeov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т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5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6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епе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ећа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0-12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42-43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ректно настаје вазодилатација и обилно зноје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к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разуме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виј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гмен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кр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аршаве,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тход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оп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сцеде&gt;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констрикци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брз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ењу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дилатациј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датив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ле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плетор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НС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дилат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греја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дух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ђ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кр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арша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ршет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нзитивн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ра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р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суст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аничк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ист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орн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саница,климактеричних,нерво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готрајна: код гојазности, интоксикација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.Хидрокинетичк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ев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мере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сегмент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финисан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анич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нов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љ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ич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кундаран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нос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ну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0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на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.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ск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т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сок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т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ик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руј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р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иш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кинетичк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Шкотск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уш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2-3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т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3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стоја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30-3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о 38-42С,30-60 сек,па 15-20 С 15 до 30 сек. што се понавња 4-5 пута.Пр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ак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едеће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ма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 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рш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нергич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љање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-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тичк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Шаркоов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Charkot)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 воде под р 1-3 Ва,са 2-3 м удаље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ња,па бочна,па предње стране тела,густим и растреситим млазом.У почетку 30-32,после 5-6 процедура 20 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е 3-5 мин,завршава се енергичним трљањем преко сувог чарша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перем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ти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ч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серна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тлож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, ваздух 1-2 Бара пропушта се кроз решетку, дражи механо и терморецепторе.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масаж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гетск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дативно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жиљк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ластични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актур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ед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МН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жиљц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тичк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водна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саж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епрат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е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мерав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олел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гмент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става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ниц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њ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ак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 растојање.Попречно-на мишиће,кости и зглобове,косо на кожу и поткожно ткиво.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нтр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во проксимални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0-1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004760" y="938160"/>
            <a:ext cx="7134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 периоду развоја Римског царства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јвеће изграђено купатило из тог доба налази се у Риму (Каракалине терме),  на 14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a 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 вртовима, стадионима, зеленим површинама</a:t>
            </a:r>
            <a:r>
              <a:rPr b="0" lang="sr-C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М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гло је да прими 3200 људи. За време Римског царства изграђено је 900 купатила, а у наслеђу су оставили бање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shi (Aquae Calidae), Bat (Aquae Sulis), Visbaden  (Aquae Mattiacae)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ти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ч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зитерапиј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ра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жб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химедов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ко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ђ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ре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аг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довољ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в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аза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прављ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шк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фека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звоље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лонац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зитерап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ећање снаге и издржљивости 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билизација зглоб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ење спастицит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бољшање баланса и координ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риоваскуларно и респираторно кондиционир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лакс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ење бола,спазма и от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абардов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ан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4" descr="hab"/>
          <p:cNvPicPr/>
          <p:nvPr/>
        </p:nvPicPr>
        <p:blipFill>
          <a:blip r:embed="rId1"/>
          <a:stretch/>
        </p:blipFill>
        <p:spPr>
          <a:xfrm>
            <a:off x="2282760" y="2362320"/>
            <a:ext cx="5262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Хидрохемијс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бин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рмаколош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х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ерал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дат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емијс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терич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љ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ље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окси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)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изичк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ичк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е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н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о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сорп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оз кож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оматич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донс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љендиоксид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љенокисел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5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тк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е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иж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6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их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вету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ров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е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дн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ри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ичн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нос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5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црвен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ури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рецепто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ВС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вету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т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електрич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куп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Галванс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ада (300-500 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Четвороћелич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520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410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САУ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43400" cy="5046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ишекратна</a:t>
            </a:r>
            <a:r>
              <a:rPr b="1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душна</a:t>
            </a:r>
            <a:r>
              <a:rPr b="1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уп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оплом(110 С)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уво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духу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лед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лад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пшт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уп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оливањ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ш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ишекрат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двофазног</a:t>
            </a:r>
            <a:r>
              <a:rPr b="1" lang="en-U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надражај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гревање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лађење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ел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аврат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борав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о 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5-20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игрометар,туширањ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ЕРАПИЈС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ЗМЕТИЧ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ПОРТС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Физиолошко</a:t>
            </a:r>
            <a:r>
              <a:rPr b="1" lang="sr-Latn-CS" sz="36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деловање сау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Терморегулациони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механизми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емп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аст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40º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 уз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нтензивн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нојење(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400-800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2000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мл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ноја)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ел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знос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39º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.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КВ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систе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ад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ијастолног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убрзањ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хлађ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лаз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мањ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већа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ијастолног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чему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реб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водит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ачун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д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хипертенз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Вазомоторни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тренинг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ко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ј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вод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егула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     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мањ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фреквен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дисања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Бубрег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ма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егулацију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функ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бубрег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Метаболиза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Кожа</a:t>
            </a:r>
            <a:r>
              <a:rPr b="1" lang="sr-Latn-C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акне,сува кож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Имунитет: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већањ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отпорност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ем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нфекцијам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Састав крви,мишићна снаг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2" descr="C:\Users\jo\Downloads\rimskokupatilo.jpg"/>
          <p:cNvPicPr/>
          <p:nvPr/>
        </p:nvPicPr>
        <p:blipFill>
          <a:blip r:embed="rId1"/>
          <a:srcRect l="9996" t="0" r="9996" b="0"/>
          <a:stretch/>
        </p:blipFill>
        <p:spPr>
          <a:xfrm>
            <a:off x="1066680" y="612720"/>
            <a:ext cx="70866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ндикације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 сауну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у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мање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омотор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акциј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ж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рашћивањ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а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соријаз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дегенератив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уматич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спираторног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нгиопатиј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(I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тадијум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еспециф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лаке Х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Контраиндикације</a:t>
            </a:r>
            <a:r>
              <a:rPr b="1" lang="en-U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en-U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саун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алигн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мор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роцес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Фебрил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та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енструација,трудноћ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клузив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ртеријск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беркулоз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Декомпензациј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рц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лућа, бубрега и јетр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зраже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ипертиреоз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рварење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клоност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рварењ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имске терме су биле центар јавног живо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сторије у Римским термам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Просторије за комуникациј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Одељење за остављање гардероб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poditeri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загревана просторија на улазу у купат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pidari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росторија са загрејаним ваздух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ldari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упатила са врућом водом ( вруће купањ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igidarij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купатила са хладном водом ( хладно купањ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dator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росторија за презнојавањ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саун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nctor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одељење за масаж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trina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тоал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furn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ложиш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C:\Users\jo\Downloads\terme1.jpg"/>
          <p:cNvPicPr/>
          <p:nvPr/>
        </p:nvPicPr>
        <p:blipFill>
          <a:blip r:embed="rId1"/>
          <a:srcRect l="0" t="6763" r="0" b="6763"/>
          <a:stretch/>
        </p:blipFill>
        <p:spPr>
          <a:xfrm>
            <a:off x="1066680" y="457200"/>
            <a:ext cx="7010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зичк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емијс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отни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пацит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от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гре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термопровољив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оплот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ролаз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роз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1 c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²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/s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чврстих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бољ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ругих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ечност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гасов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(3 x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алкохо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28 x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ваздух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хидросолубилн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раствар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упстанц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во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Info</cp:lastModifiedBy>
  <dcterms:modified xsi:type="dcterms:W3CDTF">2020-01-03T10:17:59Z</dcterms:modified>
  <cp:revision>40</cp:revision>
  <dc:subject/>
  <dc:title>HIDROTERAPIJA</dc:title>
</cp:coreProperties>
</file>